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9B48-1506-43D6-AE58-C025A6C8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2DAA-BD74-4D2D-B0ED-9FD8BC6A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C317-1A38-4947-AE30-5E7EBCA7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3BD3-1413-4A35-9328-502841F6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627F-41BE-482E-BB34-8BB06E6F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5882-0CBE-42BE-9D0B-229CD781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594-9B66-4F13-BA12-AEEAEA3D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F03F-2EEC-480A-BAEB-3F9FDCD7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C0BE-4EEF-490B-BEEB-0384330B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6C2E-D7BD-40B1-A799-AE5B463C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EC42-315F-45B3-9A2A-654C1C12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7CBC-BC2C-4EF9-BAC9-AAB0A076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1B83-BB69-4A5D-809B-787FA2553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wikipedia.org/" TargetMode="External"/><Relationship Id="rId3" Type="http://schemas.openxmlformats.org/officeDocument/2006/relationships/hyperlink" Target="http://www.iranmehr.com/" TargetMode="External"/><Relationship Id="rId4" Type="http://schemas.openxmlformats.org/officeDocument/2006/relationships/hyperlink" Target="http://www.payvand.com/" TargetMode="External"/><Relationship Id="rId5" Type="http://schemas.openxmlformats.org/officeDocument/2006/relationships/hyperlink" Target="http://www.nationsencylopedia.com/" TargetMode="External"/><Relationship Id="rId6" Type="http://schemas.openxmlformats.org/officeDocument/2006/relationships/hyperlink" Target="http://www.news.bbc.co.uk/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8338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669" t="85465" r="1669" b="1244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1669" t="1244" r="1669" b="86677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1669" t="1244" r="1669" b="1244"/>
          <a:stretch/>
        </p:blipFill>
        <p:spPr>
          <a:xfrm>
            <a:off x="0" y="380880"/>
            <a:ext cx="9144000" cy="6148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dobe Caslon Pro Bold"/>
              </a:rPr>
              <a:t>Ira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1811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dobe Caslon Pro Bold"/>
              </a:rPr>
              <a:t>Rachel S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dobe Caslon Pro Bold"/>
              </a:rPr>
              <a:t>April Henn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dobe Caslon Pro Bold"/>
              </a:rPr>
              <a:t>Perio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dobe Caslon Pro Bold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dobe Caslon Pro Bold"/>
                <a:hlinkClick r:id="rId2"/>
              </a:rPr>
              <a:t>www.wikipedia.org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dobe Caslon Pro Bold"/>
              </a:rPr>
              <a:t> – February 18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dobe Caslon Pro Bold"/>
                <a:hlinkClick r:id="rId3"/>
              </a:rPr>
              <a:t>www.iranmehr.com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dobe Caslon Pro Bold"/>
              </a:rPr>
              <a:t> – February 18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dobe Caslon Pro Bold"/>
                <a:hlinkClick r:id="rId4"/>
              </a:rPr>
              <a:t>www.payvand.com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dobe Caslon Pro Bold"/>
              </a:rPr>
              <a:t> – February 19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dobe Caslon Pro Bold"/>
                <a:hlinkClick r:id="rId5"/>
              </a:rPr>
              <a:t>www.nationsencylopedia.com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dobe Caslon Pro Bold"/>
              </a:rPr>
              <a:t> – February 19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dobe Caslon Pro Bold"/>
                <a:hlinkClick r:id="rId6"/>
              </a:rPr>
              <a:t>www.news.bbc.co.uk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dobe Caslon Pro Bold"/>
              </a:rPr>
              <a:t> – February 19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6" dur="8848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dobe Caslon Pro Bold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Location:  Iran is located in the Middle East, bordering the Gulf of Oman, the Persian Gulf, and the Caspian Sea.  It is between Iraq and Pakist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Landforms:  The Zagros mountain range and the Alborz mountain range are found in Iran.  Also common to Iran are various dese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68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68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6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433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dobe Caslon Pro Bold"/>
              </a:rPr>
              <a:t>The Land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Water systems:  The Caspian Sea and the Persian Gulf are found around I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Natural Resources:  In Iran, petroleum, natural gas, coal, chromium, copper, iron ore, lead, manganese, zinc, and sulfur are f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68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68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6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6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27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dobe Caslon Pro Bold"/>
              </a:rPr>
              <a:t>Climate and Veg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Native Wildlife:  Asiatic cheetah, bears, gazelles, wild pigs, wolves, jackals, panthers, Eurasian lynx, f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Common Vegetation:  Fruits and flowers, mainly anything that will grow in this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86200" y="4191120"/>
            <a:ext cx="5029200" cy="2666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085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600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dobe Caslon Pro Bold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Political Leaders:  Ayatollah Ali Khamenei and Mahmoud Ahmadinej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Type of Government:  Theocratic Re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Life Expectancy:  69.3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Population:  68,278,8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988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dobe Caslon Pro Bold"/>
              </a:rPr>
              <a:t>History and Current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2 Important Historical Ev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dobe Caslon Pro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dobe Caslon Pro Bold"/>
              </a:rPr>
              <a:t>After World War 2, the world went straight into the Cold W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dobe Caslon Pro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dobe Caslon Pro Bold"/>
              </a:rPr>
              <a:t>The Islamic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1 Current Ev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dobe Caslon Pro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dobe Caslon Pro Bold"/>
              </a:rPr>
              <a:t>Disagreements with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6734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dobe Caslon Pro Bold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Type of Industry:  Oil refining, petrochemicals, steel, and co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Major Exports:  Oil, fruits, nuts, animal hides, processed foods, and sp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Literacy Rate:  79.4% of people age 15 and over can read and wr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Currency:  Iranian 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1075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Caslon Pro Bold"/>
              </a:rPr>
              <a:t>Traditional Clothing:  </a:t>
            </a:r>
            <a:r>
              <a:rPr b="0" lang="en-US" sz="2400" spc="-1" strike="noStrike">
                <a:solidFill>
                  <a:srgbClr val="ffffff"/>
                </a:solidFill>
                <a:latin typeface="Adobe Caslon Pro Bold"/>
              </a:rPr>
              <a:t>Heads</a:t>
            </a:r>
            <a:r>
              <a:rPr b="0" lang="en-US" sz="2400" spc="-1" strike="noStrike">
                <a:solidFill>
                  <a:srgbClr val="000000"/>
                </a:solidFill>
                <a:latin typeface="Adobe Caslon Pro Bold"/>
              </a:rPr>
              <a:t>carves, long skirts, vests, shi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Caslon Pro Bold"/>
              </a:rPr>
              <a:t>Traditional Foods:  Rice, </a:t>
            </a:r>
            <a:r>
              <a:rPr b="0" lang="en-US" sz="2400" spc="-1" strike="noStrike">
                <a:solidFill>
                  <a:srgbClr val="ffffff"/>
                </a:solidFill>
                <a:latin typeface="Adobe Caslon Pro Bold"/>
              </a:rPr>
              <a:t>khoresht,</a:t>
            </a:r>
            <a:r>
              <a:rPr b="0" lang="en-US" sz="2400" spc="-1" strike="noStrike">
                <a:solidFill>
                  <a:srgbClr val="000000"/>
                </a:solidFill>
                <a:latin typeface="Adobe Caslon Pro 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dobe Caslon Pro Bold"/>
              </a:rPr>
              <a:t>aash</a:t>
            </a:r>
            <a:r>
              <a:rPr b="0" lang="en-US" sz="2400" spc="-1" strike="noStrike">
                <a:solidFill>
                  <a:srgbClr val="000000"/>
                </a:solidFill>
                <a:latin typeface="Adobe Caslon Pro Bold"/>
              </a:rPr>
              <a:t>, kookoo, pollo, </a:t>
            </a:r>
            <a:r>
              <a:rPr b="0" lang="en-US" sz="2400" spc="-1" strike="noStrike">
                <a:solidFill>
                  <a:srgbClr val="ffffff"/>
                </a:solidFill>
                <a:latin typeface="Adobe Caslon Pro Bold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dobe Caslon Pro Bold"/>
              </a:rPr>
              <a:t> w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Caslon Pro Bold"/>
              </a:rPr>
              <a:t>Languages Spoken:  Persian, Turkic, Kurdish, Luri, Balochi, Arabic, and Turk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Caslon Pro Bold"/>
              </a:rPr>
              <a:t>Religions Practiced:  Muslim, Zoroastrian, Jewish, Christian, and Baha’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Caslon Pro Bold"/>
              </a:rPr>
              <a:t>Architecture/Building Styles:  Buildings in Iran often feature circle and square designs, as well as columned porches.  They are also made with clay or m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9776000">
            <a:off x="668160" y="396360"/>
            <a:ext cx="205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dobe Caslon Pro Bold"/>
              </a:rPr>
              <a:t>Cul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10183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dobe Caslon Pro Bold"/>
              </a:rPr>
              <a:t>Places to Vis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Tourist Attractions:  </a:t>
            </a: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Skiing</a:t>
            </a: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, beaches, and gard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Significant Historical Sites:  The cities of </a:t>
            </a: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Esfahan</a:t>
            </a: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 and Persepo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1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9422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4:38:21Z</dcterms:created>
  <dc:creator>rachelgsidor</dc:creator>
  <dc:description/>
  <dc:language>en-US</dc:language>
  <cp:lastModifiedBy>rachelgsidor</cp:lastModifiedBy>
  <dcterms:modified xsi:type="dcterms:W3CDTF">2009-02-24T14:48:31Z</dcterms:modified>
  <cp:revision>11</cp:revision>
  <dc:subject/>
  <dc:title>Iran</dc:title>
</cp:coreProperties>
</file>